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00200" y="383616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776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9968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9880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0020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9968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9880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3915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776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83616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776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9968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9880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9968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9880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3915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8776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600200" y="383616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8776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9968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9880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60020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09968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59880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3915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8776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600200" y="383616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38776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09968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98800" y="14479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60020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409968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98800" y="383616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3915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7760" y="383616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760" y="14479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00200" y="383616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electrod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redbar"/>
          <p:cNvPicPr/>
          <p:nvPr/>
        </p:nvPicPr>
        <p:blipFill>
          <a:blip r:embed="rId3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0" y="1295280"/>
            <a:ext cx="1523880" cy="1062000"/>
            <a:chOff x="0" y="1295280"/>
            <a:chExt cx="1523880" cy="1062000"/>
          </a:xfrm>
        </p:grpSpPr>
        <p:sp>
          <p:nvSpPr>
            <p:cNvPr id="3" name="Rectangle 12"/>
            <p:cNvSpPr/>
            <p:nvPr/>
          </p:nvSpPr>
          <p:spPr>
            <a:xfrm>
              <a:off x="0" y="1295280"/>
              <a:ext cx="1523880" cy="10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Picture 13" descr="igniteimage"/>
            <p:cNvPicPr/>
            <p:nvPr/>
          </p:nvPicPr>
          <p:blipFill>
            <a:blip r:embed="rId4"/>
            <a:stretch/>
          </p:blipFill>
          <p:spPr>
            <a:xfrm>
              <a:off x="138240" y="1387440"/>
              <a:ext cx="1246680" cy="86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" name="Picture 11" descr="blackbar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50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6"/>
          <a:stretch/>
        </p:blipFill>
        <p:spPr>
          <a:xfrm>
            <a:off x="7785000" y="6423120"/>
            <a:ext cx="1077840" cy="198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electrodesdark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redbar"/>
          <p:cNvPicPr/>
          <p:nvPr/>
        </p:nvPicPr>
        <p:blipFill>
          <a:blip r:embed="rId3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0" y="1295280"/>
            <a:ext cx="1523880" cy="1062000"/>
            <a:chOff x="0" y="1295280"/>
            <a:chExt cx="1523880" cy="1062000"/>
          </a:xfrm>
        </p:grpSpPr>
        <p:sp>
          <p:nvSpPr>
            <p:cNvPr id="48" name="Rectangle 6"/>
            <p:cNvSpPr/>
            <p:nvPr/>
          </p:nvSpPr>
          <p:spPr>
            <a:xfrm>
              <a:off x="0" y="1295280"/>
              <a:ext cx="1523880" cy="106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igniteimage"/>
            <p:cNvPicPr/>
            <p:nvPr/>
          </p:nvPicPr>
          <p:blipFill>
            <a:blip r:embed="rId4"/>
            <a:stretch/>
          </p:blipFill>
          <p:spPr>
            <a:xfrm>
              <a:off x="138240" y="1387440"/>
              <a:ext cx="1246680" cy="86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8" descr="blackbar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5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tretch/>
        </p:blipFill>
        <p:spPr>
          <a:xfrm>
            <a:off x="7785000" y="6423120"/>
            <a:ext cx="1077840" cy="198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7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grpSp>
          <p:nvGrpSpPr>
            <p:cNvPr id="91" name="Group 8"/>
            <p:cNvGrpSpPr/>
            <p:nvPr/>
          </p:nvGrpSpPr>
          <p:grpSpPr>
            <a:xfrm>
              <a:off x="0" y="0"/>
              <a:ext cx="9144000" cy="6867360"/>
              <a:chOff x="0" y="0"/>
              <a:chExt cx="9144000" cy="6867360"/>
            </a:xfrm>
          </p:grpSpPr>
          <p:pic>
            <p:nvPicPr>
              <p:cNvPr id="92" name="Picture 9" descr="electrodes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0" descr="redbar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25146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1" descr="blackbar"/>
              <p:cNvPicPr/>
              <p:nvPr/>
            </p:nvPicPr>
            <p:blipFill>
              <a:blip r:embed="rId4"/>
              <a:stretch/>
            </p:blipFill>
            <p:spPr>
              <a:xfrm>
                <a:off x="0" y="5562720"/>
                <a:ext cx="9144000" cy="13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Rectangle 12"/>
              <p:cNvSpPr/>
              <p:nvPr/>
            </p:nvSpPr>
            <p:spPr>
              <a:xfrm>
                <a:off x="0" y="1295280"/>
                <a:ext cx="2514600" cy="175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Picture 13" descr="igniteimage"/>
              <p:cNvPicPr/>
              <p:nvPr/>
            </p:nvPicPr>
            <p:blipFill>
              <a:blip r:embed="rId5"/>
              <a:stretch/>
            </p:blipFill>
            <p:spPr>
              <a:xfrm>
                <a:off x="228600" y="1447920"/>
                <a:ext cx="2057400" cy="1428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7" name="Picture 14" descr=""/>
            <p:cNvPicPr/>
            <p:nvPr/>
          </p:nvPicPr>
          <p:blipFill>
            <a:blip r:embed="rId6"/>
            <a:stretch/>
          </p:blipFill>
          <p:spPr>
            <a:xfrm>
              <a:off x="6781680" y="6095880"/>
              <a:ext cx="18734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4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pic>
          <p:nvPicPr>
            <p:cNvPr id="137" name="Picture 13" descr="electrodesdark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4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2" descr="redba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146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3" descr="blackbar"/>
            <p:cNvPicPr/>
            <p:nvPr/>
          </p:nvPicPr>
          <p:blipFill>
            <a:blip r:embed="rId4"/>
            <a:stretch/>
          </p:blipFill>
          <p:spPr>
            <a:xfrm>
              <a:off x="0" y="5562720"/>
              <a:ext cx="914400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4"/>
            <p:cNvSpPr/>
            <p:nvPr/>
          </p:nvSpPr>
          <p:spPr>
            <a:xfrm>
              <a:off x="0" y="1295280"/>
              <a:ext cx="2514600" cy="17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5" descr="igniteimage"/>
            <p:cNvPicPr/>
            <p:nvPr/>
          </p:nvPicPr>
          <p:blipFill>
            <a:blip r:embed="rId5"/>
            <a:stretch/>
          </p:blipFill>
          <p:spPr>
            <a:xfrm>
              <a:off x="228600" y="1447920"/>
              <a:ext cx="205740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6" descr=""/>
            <p:cNvPicPr/>
            <p:nvPr/>
          </p:nvPicPr>
          <p:blipFill>
            <a:blip r:embed="rId6"/>
            <a:stretch/>
          </p:blipFill>
          <p:spPr>
            <a:xfrm>
              <a:off x="6781680" y="6095880"/>
              <a:ext cx="18734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520" y="9144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Online Behaviour Tracking and Privacy: 7 Worst-Case Scenari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210492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600200" y="20570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ill collect information but not to leverage it when choosing which ads to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752480" y="533520"/>
            <a:ext cx="739152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ivacy Solutions Require You to Opt Out -- Not In -- And Nobody No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2238120" cy="245736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54" dur="1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ivacy Solutions Require You to Opt In -- And Kill the Ad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52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utting down online tracking with an opt-in policy could slow that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60" dur="15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67652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t-out is an appealing choice for advertisers because it won'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600200" y="380880"/>
            <a:ext cx="739152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ivacy Solutions Require You to Opt In -- And Kill the Ad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1981440" cy="292248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66" dur="1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5. Individuals Leverage Online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unch of the Firefox plugin Fire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5867640" cy="264492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72" dur="1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will be not so difficult to track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5. Individuals Leverage Online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3838320" cy="98136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78" dur="1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The Internet Gets Expen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wer targeted ads could mean less profit for both advertisers an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1420920" cy="3809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1298520" cy="366732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84" dur="15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will continue to be free after they track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The Internet Gets Expens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3352680" cy="371304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90" dur="1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ersonalization on Websites Disapp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okies enable person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2209680" cy="3120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176720" cy="403848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96" dur="15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ople might want to be tracked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ersonalization on Websites Disapp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191120" cy="279072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102" dur="1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your stance on this debate? Are targeted ads merely a part of the internet ad space or are they an invasion of privac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108" dur="1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Never been targeted by an 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than 80 percent of advertising campaigns involved tracking of some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6" dur="15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e’s U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2" descr="stopwatch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18910200">
            <a:off x="5791320" y="-144792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3"/>
          <p:cNvSpPr/>
          <p:nvPr/>
        </p:nvSpPr>
        <p:spPr>
          <a:xfrm>
            <a:off x="-228600" y="6095880"/>
            <a:ext cx="96012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4" descr=""/>
          <p:cNvPicPr/>
          <p:nvPr/>
        </p:nvPicPr>
        <p:blipFill>
          <a:blip r:embed="rId2"/>
          <a:stretch/>
        </p:blipFill>
        <p:spPr>
          <a:xfrm>
            <a:off x="7785000" y="6423120"/>
            <a:ext cx="1077840" cy="1983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your speak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 Lisa L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Online behaviour tracking violates citizen r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76176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4762440" cy="326700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12" dur="1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7 worst case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4772160" cy="358128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18" dur="15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nsumers Remain Ignorant of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udy of behaviourial 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24" dur="15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nsumers Remain Ignorant of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are not anonymous, these sites are tracking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3353040" cy="370044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30" dur="1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Online Tracking Evolves Past the "Creepy Li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t right up to the creepy line and not cros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4667400" cy="290520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36" dur="1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Online Tracking Evolves Past the "Creepy Li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road categories that help them determine what ad they should 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3838320" cy="98136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42" dur="1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73915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ivacy Solutions Require You to Opt Out -- Not In -- And Nobody No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467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ed to opt out of onlin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0" y="617220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0"/>
          <p:cNvSpPr/>
          <p:nvPr/>
        </p:nvSpPr>
        <p:spPr>
          <a:xfrm>
            <a:off x="0" y="6095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0047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2990880" cy="299088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293E-006 L 0.96666 -2.43293E-006 E">
                                      <p:cBhvr>
                                        <p:cTn id="48" dur="1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0:58:46Z</dcterms:created>
  <dc:creator>RR Donnelley</dc:creator>
  <dc:description/>
  <dc:language>en-US</dc:language>
  <cp:lastModifiedBy>Lisa Luu</cp:lastModifiedBy>
  <dcterms:modified xsi:type="dcterms:W3CDTF">2010-11-08T17:47:35Z</dcterms:modified>
  <cp:revision>51</cp:revision>
  <dc:subject/>
  <dc:title>Slide 1</dc:title>
</cp:coreProperties>
</file>